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444-48AB-441A-B095-06B646CB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F1C-C42F-4CB1-A5F5-4DCDB0DB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D75-4317-4F0D-865A-46FE17A8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6E1-9549-489C-96F9-80B13731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3787-D41E-47F1-A688-5DACF1BC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748F-E178-490E-8E53-04A3EE3F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26D2-49DE-4325-ADB6-BD9222B5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2775-61BE-438C-AF59-53125485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3804-4BA3-4748-B775-5951FCB7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D02A-31B8-4FDE-8349-2621E254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B9B8-685F-4C01-8F5F-3BA736D0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4F7-395A-4401-913C-9F603AB8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CA9B-6856-42E2-B0F5-97F4C923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9054-62B7-422B-846A-3AD4FB5D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5CFA-EC89-4706-9234-3B326F59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5B50-5CE0-4706-96FC-0B0BD48C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EF36-406E-4F59-8A35-CB88E752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0877-FEDB-4B1E-86F9-DED90DB1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751-950C-4B46-9932-178DA052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1A6-35AA-409A-8470-9FFD9507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739E-425B-4BAE-B2EF-9A668AD8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46D-0199-47EB-9E8C-143A5BBC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A7B0-F76E-4163-BAEA-1D2AA269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ACE-3E47-42BB-8FCF-A64D37EA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D38E-4DD3-4FAE-9D01-BFE864F2A503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DBEE-D2D7-4911-B08E-E84BF6B67A9F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dvanced VYP Materi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elated to VYP0</a:t>
            </a: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seim</cp:lastModifiedBy>
  <dcterms:modified xsi:type="dcterms:W3CDTF">2005-10-22T14:23:06Z</dcterms:modified>
  <cp:revision>195</cp:revision>
  <dc:subject/>
  <dc:title>Parallel communicating (PC) grammar systems</dc:title>
</cp:coreProperties>
</file>